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747-9FE6-44DD-9FE4-0C7E5B3A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DCB-BD9E-41E6-82C6-62AC4DC4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64EBC-E936-4E8A-BE40-BCD211B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4B248-E308-4F8D-8F89-2DFDCDD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7F63-55DF-4FCC-9C30-4AD1B6F7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03981-B617-4508-8092-A29169D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9D395-2602-4943-A160-C20F24C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E955D-7EA6-447A-8AAA-46D482F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19190-3BB6-4017-B5FE-3AA27A9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969FD-7459-4103-AF40-7065662F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A8AF-1358-4A4B-980D-EC3FEB8F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2BC84-8C92-4CA5-A25C-3E63F5BF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9B9-FB95-4F05-B277-813DA22C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70D64-F593-44B2-AB2F-2719D06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DE9BD-B917-4786-8A70-502CF31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2645-02C8-48C9-B493-CE29C20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8895D-995E-4098-9323-DA89A884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1B1A-1310-4F3E-8FD1-4EE8710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26A01-4EFF-47FA-86D3-E503196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B5659-7721-43FF-A74A-C0CF1630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5EE9-A4D9-4747-A117-94DCB6F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A9825-8B5D-450E-8831-76FECDD1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CB024-2DDE-4489-8B28-67C61578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16B-B6E6-42FC-8955-B9A367C6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54DFA-F1A9-441E-9EF8-D7A35A3F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3FF2-22E1-420B-B4A6-7428C43D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0CEFD-00B9-492D-BB8D-AEB20E45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326F9-645F-4D06-A66D-CAB33ABF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88B92-86A2-483F-97EC-B189AD5D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23BC-1EC5-4A16-BC03-F85E0DC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487B0-3575-4597-9938-948A77F2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6828A-0E63-42C2-87DD-62AF9FD4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7A3CE-4F4D-4916-8FCF-2B652DB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738D-37D0-4484-BBD8-0CE046B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DD5-0E28-45E0-B88E-AC108AF7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A41A0-C84E-4BE6-AB3E-B4095A1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63CA6-857C-4ABE-B267-41B24647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DF2EA-3718-4477-B99C-BB089C08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07C36-643B-415B-8849-1CA0C091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B4162-2DDE-48C0-9D80-C3DA64E3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CF1AB-1A21-4E1B-A80E-D7862A7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3F178-21D6-4368-BD29-577C32F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A7450-A2E0-456F-B1EF-01099FE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17DD0-F18E-4B7A-B8B4-58D6C28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EE534-C0C2-4E2E-BFB4-BDC84D9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F5B-E588-4622-AC2A-999623F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3F8C2-AD29-45EC-BAC8-114161FD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69E5E-D73D-4285-ADD8-431FFD22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34752-7D19-4A78-B606-3539842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6A186-EE8A-4C3B-973F-E7747D6C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87937-1BE1-480E-B66F-4331C1AA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70FBC-532A-46B9-8DDB-2E73D35D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5A682-D775-49DB-8232-135CBD2B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66432-A043-43CA-97DB-3D3FC29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6C9EA-439D-482B-BF8D-AB941F17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ADE35-D51F-45AB-9BFF-BAB9AAB8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5CA9-F815-4757-91F9-32D31CB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6E83D-2F42-4773-8153-698B58DF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F0DA9-7095-4AA8-952B-A8BABC80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BDC65-7916-4ADA-B2E8-922EDE2C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2BEB6-C1BF-492D-9BE6-139E615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299B8-367D-4C46-A0C3-05484CC2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527E1-8778-46DF-8655-D753C743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B8054-BB25-4EC8-AA65-8F52BC36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8D84C-F698-4613-9373-7F034A03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4D911-06F1-4DF6-953C-2CE2EFB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BC733-92A5-44F0-98FB-E9E475C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A412-1854-452B-81A3-F5EE0EF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BDCA9-028F-499E-B4D3-EEDA0C7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FB40C-E4C8-4EBF-9279-8430700F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BF6F2-7996-4ABB-8B68-F27D2152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92A7D-4C98-45F1-95A0-7B63E26C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3BDDD-0407-4A61-83AD-FA9682B8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80B3B-4894-49CC-A2A1-2B1E097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5BBAD-321A-4C01-9A2A-9A42C28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6D36F-3012-4CE8-A09A-65B6EF38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0841C-4226-4B0A-8BBA-4C722E9D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07C93-EE7C-4FF8-A8C1-437C417E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281A-739C-4A31-9072-6DF8A77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2EE84-ACE6-4D24-9680-459B1AF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0A9B4-6D37-4F73-A611-758BD22D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5BBB76-1B87-498C-8934-4AED879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99857-6D13-403B-A0A4-6F49F3A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C949E-F4D0-4784-99ED-CFDB835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63F0F-78A6-4047-B5D3-F59F41A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0494B-F301-40B0-A35F-49C0363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8527F-2086-453E-91C0-1ACC1D4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0135A-78F5-410B-8E64-B66DF26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F748AF-C8ED-4AF4-B6D9-A8B9AF11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2AC2-8E24-4E48-8C96-D93B11BB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352F0-376A-416F-AC71-D0600449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6CDDF-C80F-406A-803B-349A4405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0B37D-FA35-4E82-BFD3-D6DBFB9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B8D37-2A36-4FF0-AA45-3940675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19C98-6516-4645-B3ED-FA4F443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2E6DA-8108-4738-AA24-BB0EE548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A08494-272C-49F7-A594-47E95AA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71F1A-404D-4D9B-A05C-0F73F45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C5521-C17F-47A2-AD26-635C32F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81203-70B7-4E89-865D-A03B12B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8C1-CB7F-47FC-A7C7-8A80281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909047-396A-444B-AC6C-1E36E82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EE52B-95AC-4CC3-849A-00C1CF22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5297A-AD78-48DF-BA57-1DFF5D1D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766D3-8B7C-41B1-AD21-B0AA948A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F59C5-6889-4AD3-B9F9-7B929176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019B8-C479-4813-9AF9-B2B179C3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F9FE7-7194-4A94-91DF-7C0152E7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65D56-5835-458A-A459-B987F0F2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1B752-62BC-4761-843F-9FB207C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7C386-BA20-46DD-9B5E-0281E01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D8E-D024-4A5C-A52C-2358D5F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919E-55ED-463D-83B1-216E00D5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9E72C-7951-4705-8069-6767F67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BCE87-CF08-4719-AD59-8413ECD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3B357-8A25-4B56-94F4-C1AC822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F696F-0C53-44D5-926C-0FADDE08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B2EA6-D65C-44F3-9717-CFCC67F3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50619-C1AC-48AA-946A-4038B8C1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93C48-F462-4C47-93C0-7EE1AD6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039E0-1532-4D62-91BF-507C5FC5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CB692-BFCC-4B21-8E6C-1F9133E8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232E5-57B5-4750-92B8-CE6B4A3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B094-E4D9-49CE-90DA-0803593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9DC3AC-7F68-4093-9494-01A3C81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FC98B-7C78-4DB4-869B-3C351E6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354F9-C5E0-432B-A68B-5EEC5FA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21CCA-A3B3-4945-BD65-60BC1CB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84C8B-000B-41A6-B711-8F3F3008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B71749-04A0-4A47-BBE7-5B43425D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E12EC-5244-4F20-A314-1C89B980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75E2F-438D-4C6C-98E4-1FB3568D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609FA-230A-40E0-ADA5-F7AA2A1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4395C-A740-4278-84F1-B4017E7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D8E-6D72-45E9-B7F7-FD7F8DD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8CA57-66D2-42A7-B8A3-3E69104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D9199-1A5C-4079-B7A3-82189DC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06044-52AA-489C-AC08-CA2ED655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9910C-29F3-4A08-993D-9BEEA0C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19E43-290E-4ACC-9DE5-0AD04F37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04466-3F3E-47FF-AD65-E628941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A20F7-6E55-4665-BC36-FDBB105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62936E-5799-4E0B-A30B-BA85C54D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24584-978A-4508-8180-E0668736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0AAF8-D486-4092-8F78-B878861E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D4C6-C661-4C19-A1BE-BDFD16C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7F49A-EDDF-44A3-A7FE-6C9FEA0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02187-6059-418E-AF25-8997EBB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DC4D0-C3F6-4598-899E-F0B06BDB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12637F-6517-403D-B3E7-83776860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D4360-48D7-4741-9676-685FFCB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88AFF-8DE3-4C89-9EDD-1CAA569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F5A9C-A582-403F-A682-550D0E00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2B106B-E742-43EC-A1A6-5954F2E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49A5C-45D0-40E8-ADB3-74A7D0D8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BCD3A-069D-43F8-B9C8-C4FD0BF8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6AE9-1F4E-4360-8B3F-BECDA78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DD7D0-B2DC-451D-B4B3-B16310A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4A203-164E-4C2B-AE10-1086AEC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83DBE-B158-4A9D-BE7F-5822309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60F0E-8965-4C54-B1D1-51612D38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DEEDF-F6F6-4063-B361-9B353F72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52AED-9EC3-4804-B9C4-D8B5CEE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CB029-23AD-47C8-8F23-90185EE8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4CF27D-EB56-4DF8-9FD4-FCBBBA1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E5107-D55E-4089-B495-F8A4C24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B0B45-43E9-48E7-A6F0-EA3E9E9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46FF-0258-4A60-92ED-3D5ECAAA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25B9B-0F27-4877-B295-64BF4C5A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78153-DBDF-4067-933E-F63DB7BF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4C92B-5840-41E9-B7C3-5755B81F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A1F4-AE64-4A44-8B18-566F37A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60BA-86D4-47FC-8502-77A5D37D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EAFC-B72F-4F95-8B4F-8399816B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4909-B46D-40B6-B573-D8EDEB3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03E-036F-4E19-A925-E8D825B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D6AB-D5BA-4550-B879-75CC80D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DBD1-97AE-4C90-9FD9-1C7AC00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7124-F02F-4FEA-A835-DD77493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0408-A22F-4FD4-A0C9-F086162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1D9EA-973C-4848-8F6C-AA5956C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C594-A493-4DFF-A6A9-4807388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91A7-825D-4790-A6C7-7317438A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4512-F3C2-43C3-857E-9CCAD572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835C-A39A-465F-88B0-AB30DFC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7544-A05E-45C1-AAB8-1E41755A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0E6-5709-4E8A-96D7-A822997F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9B376-6C00-49CE-AEDE-8B06E5A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5961-00AE-45BB-85C4-1F9C5CC6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A7D6C-2A1C-49EA-86CB-F9DF0B4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65A4-6B40-4ECE-BEBB-7A8ECDD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3F515-0DFC-4471-A457-1EF3889F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CF28-F235-4A78-A302-087ADEC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D754-5E7A-4EA7-AA36-3096B15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9813-AA16-477D-BEA1-D6B6321D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7C2B8-89E1-4BAF-BA92-74EB123B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599AA-F5BF-49A3-8F40-DEBC5BDC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FEE-54BD-47CF-9BDC-EE83512E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5EE28-DE13-49B2-983C-EAE15467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014C-D28C-4EED-9FB3-EB59E1C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418B-0AA1-405E-B150-72B2D13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8054-98BF-41E7-BF70-0FCD180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A9D8-8F8E-414A-903D-0FCC938A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1FE1-6DFA-4FF9-8F43-726CCFF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733A-04FA-49AB-8057-E26A87C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5C19-6EEF-4BCA-9A58-6ADEB64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DF8A-F247-4D0B-BB46-F5387435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DB481-E92F-4AE0-944F-15D00F3F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359-03EF-4F4B-B80B-9D16487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71E3-390C-4D76-9713-267670B6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0522-CD4A-4B3A-ABFB-5B442D74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E5DD-7274-429E-B160-0D0B225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8C26-DD9F-4B8E-8E6E-04C0E55D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EA44-1973-41A8-A1EF-5AA0129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E30D-822F-4557-A2A1-A694F975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F8F1-D043-4007-A8FD-D525CD4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5B1F-7312-40EC-805F-A0E3970C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1E7AA-296E-4FDE-BE50-DEE4C66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CEC1-B887-4BEA-B5A0-7401CBF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569-D80E-474F-96D0-FAC12310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F2F08-E8D3-44DC-A633-E8491601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A7BD2-7FFE-48A8-9657-4AD3A88C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E68D-B724-4A63-A71D-773E7B64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D3C31-F59C-410E-A381-CE2A734F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BA02-29C7-4B31-BB72-3C2C2019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BC03-A765-422F-800B-B5E6631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1300-7EA8-437D-BEDC-0B27A4B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57D2-64F3-4F84-A258-732D925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5668D-73BE-4A28-83E6-270E159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E157-1FF0-4138-8351-71641A0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3ED-AF15-4D7C-8868-55FA15E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292E-C8B9-4A35-ADE3-1B3EFAA7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A927-707A-4AEE-B7BB-46A7B14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40F64-82C1-4160-8DD1-FB02184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3538-6762-4461-BA1A-93446476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95EEF-95C7-412F-BFC8-AF87B468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5D33-06C0-4FB4-A725-F9F9DADB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9CB7-09AC-49AF-A19C-6B1EFA08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041E-7768-4C57-9843-D76467D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2C323-9F04-4A22-8A9A-8D018A8C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1121-F2CD-43FA-BEBC-614B7DE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14F-BC5D-422D-82D9-FDA4E0E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91FF-321D-4896-9465-8E1FE8AE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349B5-5813-46C0-890A-7FBF429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AD97-0354-4C40-94BA-9ED0AD18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74A6-F1E0-4F2E-B95F-B410EE0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0E5F9-FA4B-440F-A855-16039BBC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1259C-DED1-4A10-AD1E-E934862F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0733-9620-46AA-BCDB-39ADE700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9B5C-8401-4665-AD32-CDC4ADA6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4AFD3-B1EA-4FC3-B605-D5D1C1AE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AEAEA-55F3-4A4C-9521-590CA8A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298-4B2F-4EE7-A152-6352CD86F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F677-DA7E-44D3-93E9-981FB157D9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83F6-2F79-4281-8582-ABFE56888B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B67-9C4C-451C-B62F-5F0E68DB7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12FB-1FAA-462B-B030-BF8FC15D8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004C-F8FD-458A-973E-1A6402E83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786-4623-4991-8F69-81355C69B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B02D-3536-460A-94C2-62AEDE466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C0C8-870A-4E62-B62C-DFC39F46C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BBAC-01FF-4481-AF86-9C2F81B92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CDD-8764-49E6-8D4C-B7E50B03C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849-69C6-4523-B81C-3E40540DA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488F-90C8-4E59-B453-8D7E2851E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FBA4-D267-4963-9465-B241F12452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348-38B1-46D2-A733-816EDF82E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5B86-4949-4E7D-BEF6-C0888A3E62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6D98-2AA8-4D20-9977-2A32C0188D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C8F-536E-406B-937E-418630F02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B998-E08B-4592-AAB9-A45AB5EA6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EEE7-9945-45FF-AEB6-CDB8D9DE8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5BF-9FB5-4259-8E93-237E4175D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3868-1FB1-4BA9-BDE3-446ED8E80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4B9-F389-46D9-B677-417255604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51C-A4AC-4294-9AFD-7A886CD4D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82EF-133D-4520-8DFF-0C2F7627E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284F-38DF-48C8-926D-8486C4BFA4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C98-7351-40DE-A752-79F7ADC88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E36-7E0F-4D31-89C1-F2489F78C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40A1-2D3D-40F0-AE4D-EBD67C959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BC8-2DB8-45A5-B9EC-787C35E2E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F8C3-329C-4E11-8D50-F0F623071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B7B4-5DC3-4F50-AC69-82A32C6ED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E0C0-3C47-4DFD-AD82-DE801B247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BE8F-110C-408D-AACE-F6444EEF6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E1C-ECCD-4B41-997A-0E81EE5CE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16C9-EA21-41AF-930C-F65EA47C4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E6C-8C26-4798-BFA8-441807D557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D6B-0B99-4576-9509-C5A2C1A67E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3220-B92F-4652-B8E3-192846270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75E-5AB9-449C-B339-DCF116A2F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43720" cy="1314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86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324000" y="946080"/>
            <a:ext cx="8496000" cy="5362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84720" y="4235400"/>
            <a:ext cx="45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1042920" y="5013360"/>
            <a:ext cx="79218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9880" y="838080"/>
            <a:ext cx="8544240" cy="5181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780000" y="4264200"/>
            <a:ext cx="46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411280" y="533088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04800" y="981000"/>
            <a:ext cx="7934400" cy="4896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940360" y="187308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340000" y="5041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4500720" y="508464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588000" y="48117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588000" y="532908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695160" y="2414520"/>
            <a:ext cx="7753680" cy="202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164360" y="2708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252520" y="3213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2987640" y="36590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450040" y="36734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76120" y="1166760"/>
            <a:ext cx="8591760" cy="45244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7353" descr=""/>
          <p:cNvPicPr/>
          <p:nvPr/>
        </p:nvPicPr>
        <p:blipFill>
          <a:blip r:embed="rId2"/>
          <a:stretch/>
        </p:blipFill>
        <p:spPr>
          <a:xfrm>
            <a:off x="885960" y="4076640"/>
            <a:ext cx="7429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476280" y="758880"/>
            <a:ext cx="8191440" cy="5838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500720" y="580536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6326" descr=""/>
          <p:cNvPicPr/>
          <p:nvPr/>
        </p:nvPicPr>
        <p:blipFill>
          <a:blip r:embed="rId3"/>
          <a:stretch/>
        </p:blipFill>
        <p:spPr>
          <a:xfrm>
            <a:off x="723960" y="836640"/>
            <a:ext cx="7362720" cy="148572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6328" descr=""/>
          <p:cNvPicPr/>
          <p:nvPr/>
        </p:nvPicPr>
        <p:blipFill>
          <a:blip r:embed="rId4"/>
          <a:stretch/>
        </p:blipFill>
        <p:spPr>
          <a:xfrm>
            <a:off x="689040" y="2324160"/>
            <a:ext cx="79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314280" y="1100160"/>
            <a:ext cx="8515440" cy="4657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284720" y="208908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284720" y="364500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284720" y="44226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313160" y="5186520"/>
            <a:ext cx="3714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04920" y="1081080"/>
            <a:ext cx="8534160" cy="4695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372360" y="211932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372360" y="289548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372360" y="367344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6443640" y="4451400"/>
            <a:ext cx="172872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386400" y="5243400"/>
            <a:ext cx="17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343080" y="728640"/>
            <a:ext cx="8458200" cy="572472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2232" descr=""/>
          <p:cNvPicPr/>
          <p:nvPr/>
        </p:nvPicPr>
        <p:blipFill>
          <a:blip r:embed="rId2"/>
          <a:stretch/>
        </p:blipFill>
        <p:spPr>
          <a:xfrm>
            <a:off x="1116000" y="2406600"/>
            <a:ext cx="3257640" cy="323856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3" descr=""/>
          <p:cNvPicPr/>
          <p:nvPr/>
        </p:nvPicPr>
        <p:blipFill>
          <a:blip r:embed="rId3"/>
          <a:stretch/>
        </p:blipFill>
        <p:spPr>
          <a:xfrm>
            <a:off x="5478480" y="2406600"/>
            <a:ext cx="325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1:3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